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2BE-4EC5-4293-853F-CD456BF6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B40-8DFB-4070-93C0-6731D269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712-BE2E-41F2-BA5E-8ED31BF7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98D-657E-469C-88CC-80C9075C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690-7836-4234-AD8C-32282E6B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E76-F1ED-4F75-AE0F-E7A09CE4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1DB-B2EB-47E3-A822-CA653DB0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7E8-7322-4600-A0AB-1BFDC06F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63E-E135-4E00-A3E0-21D0A6A1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CA8-DE41-496C-896E-4808C35B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06A-83B2-4955-8545-4056CBE1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A8C-F589-4F6E-B60B-FD95E8D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5431-F2AD-4DBE-B30D-249379E019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628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4724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494172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粗倩简体"/>
              </a:rPr>
              <a:t>爱国不需要理由，但需要方法，理智表达爱国情感是一种胸襟，更是一种对民族负责的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4221000"/>
            <a:ext cx="8569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华文行楷"/>
              </a:rPr>
              <a:t>胡锦涛总书记的发展中日关系的五项主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90792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76280"/>
            <a:ext cx="8281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消息：中国国家主席胡锦涛和日本首相小泉纯一郎，在雅加达时间今天晚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，在胡锦涛于当地下榻的酒店会面，商讨近期中日关系紧张的议题。 并提出了对日关系的五项主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第一，要严格遵守《中日联合声明》、《中日和平友好条约》和《中日联合宣言》三个政治文件，以实际行动致力于发展面向二十一世纪的中日友好合作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69228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第二，要切实坚持以史为鉴，面向未来。日本军国主义发动的侵略战争给中国人民带来了深重灾难，也使日本人民深受其害。正确认识和对待历史，就是要把对那场侵略战争表示的反省落实到行动上，绝不再做伤害中国和亚洲有关国家人民感情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05264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第三，要正确处理台湾问题。台湾问题是中国的核心利益，涉及十三亿中国人民的民族感情。日本政府多次表示坚持一个中国政策，不支持“台独”。希望日方以实际行动体现上述承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91628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第四，要坚持通过对话，平等协商，妥善处理中日之间的分歧，积极探讨解决分歧的办法，避免中日友好大局受到新的干扰和冲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1125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第五，要进一步扩大双方在广泛领域的交流与合作，进一步加强民间友好交往，以增进相互了解，扩大共同利益，使中日关系健康稳定地向前发展。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4:56:2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49:05Z</dcterms:modified>
  <cp:revision>6</cp:revision>
  <dc:subject>主题班会课件(分28大类): http://shop62905894.taobao.com</dc:subject>
  <dc:title>主题班会课件(分28大类): http://shop62905894.taobao.com</dc:title>
</cp:coreProperties>
</file>